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5F1-15F9-4E84-9F65-5D694016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E20D-B3BB-4312-A3F7-7227E18F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419A-F4D9-4082-8FFF-8D7A7429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A44E-96F2-4D3F-8D83-1B38E3C5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B120-2CC7-40A0-BF53-E7D8A5E1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E535-20D1-4519-B68B-CDF2AF87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BA0E-DB5D-4CA1-AB7E-12A36A5A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D43D-115E-4171-A0C0-F9E01C36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0F12-02CB-4318-8F7F-B1613C39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28EE-D0AB-4499-A933-EB22D42E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EC22-4305-4F11-B380-C2599C2E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C8AC-6D2D-47DB-A676-3515D176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75B6-19A2-4970-8C0C-71DA4F72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4FEC-DF35-478E-82FB-C7F6C374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288B-5FF2-4563-A972-280D3CFF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8A1F-6D8C-42AC-A3DB-9D1824C0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E8EE-3957-40D2-BE6A-62DC52F9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1779-6149-47C2-B08B-19C5EE24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FF65-EAE7-4066-BD79-5F19AD1A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A4C0-5125-4F62-8949-5608C7D8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A222-4623-4043-8851-0DE1EFBA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F23B-1D24-4419-8F9B-AAD46E62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3BA8-6502-47BF-A880-4661FA2B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A97-2A66-42C9-BAFD-6307A9A4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54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8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8383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5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9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8686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14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8a8a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c4a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1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e3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9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4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c5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8a8a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C892-B384-4550-8741-9CC8D6540A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54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8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8383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5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9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8686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14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8a8a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c4a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1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e3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9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4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c5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8a8a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348A-5ED2-408E-8E32-0D81545855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352b8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culpturegallery.com/egypt2/king_tut_mask_lg_red.jpg&amp;imgrefurl=http://www.sculpturegallery.com/sculpture/gold_mask_of_tutankhamun.html&amp;usg=__6GXZdQhO8kBsuj8XwAok_24__YE=&amp;h=504&amp;w=375&amp;sz=100&amp;hl=en&amp;start=20&amp;um=1&amp;tbnid=hllDcq_I9COfwM:&amp;tbnh=130&amp;tbnw=97&amp;prev=/images%3Fq%3Dking%2Btut%26um%3D1%26hl%3Den%26rls%3Dcom.microsoft:en-us:IE-SearchBox%26rlz%3D1I7HPIA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meta-religion.com/Archaeology/images/Africa/king_tut_face.jpg&amp;imgrefurl=http://meta-religion.com/Archaeology/Africa/Egypt/king_tut_face.htm&amp;usg=__zcPIgHVDIf5mN5SVp5QswyAODEE=&amp;h=280&amp;w=416&amp;sz=30&amp;hl=en&amp;start=32&amp;um=1&amp;tbnid=rxas4sew59kinM:&amp;tbnh=84&amp;tbnw=125&amp;prev=/images%3Fq%3Dking%2Btut%26start%3D20%26ndsp%3D20%26um%3D1%26hl%3Den%26rls%3Dcom.microsoft:en-us:IE-SearchBox%26rlz%3D1I7HPIA%26sa%3D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en/c/ca/OetzitheIceman-glacier-199109b.jpg&amp;imgrefurl=http://mastersfiles.com/2009/01/otzi-the-iceman/&amp;usg=__BuJlAJrpuKv8WJKWlj7o9VOSX0c=&amp;h=308&amp;w=400&amp;sz=48&amp;hl=en&amp;start=32&amp;um=1&amp;tbnid=mJFxpw5ZLLHK3M:&amp;tbnh=95&amp;tbnw=124&amp;prev=/images%3Fq%3Dotzi%26start%3D20%26ndsp%3D20%26um%3D1%26hl%3Den%26rls%3Dcom.microsoft:en-us:IE-SearchBox%26rlz%3D1I7HPIA%26sa%3DN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landschaftsmuseum.de/Bilder/Oetzi-Rek_Ausschn-1.jpg&amp;imgrefurl=http://anthropology.net/2007/03/20/new-research-on-otzi-the-iceman-cometh/&amp;usg=__zmP9QRsekVc4HrDzWkViTQg5EX4=&amp;h=242&amp;w=270&amp;sz=18&amp;hl=en&amp;start=31&amp;um=1&amp;tbnid=RIxwEhwa6YHABM:&amp;tbnh=101&amp;tbnw=113&amp;prev=/images%3Fq%3Dotzi%26start%3D20%26ndsp%3D20%26um%3D1%26hl%3Den%26rls%3Dcom.microsoft:en-us:IE-SearchBox%26rlz%3D1I7HPIA%26sa%3DN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p3.blogger.com/_Y-z-fb-HGGA/RoL4Wep-zTI/AAAAAAAAB7M/3oW-TqYr_Bw/s400/rt_hatshepsut_hair_070627_ssv.jpg&amp;imgrefurl=http://1158munich.blogspot.com/2007/06/smiling-queen.html&amp;usg=__ypaOq4d0L77zy9EHZbaljrWjQC8=&amp;h=400&amp;w=366&amp;sz=24&amp;hl=en&amp;start=52&amp;um=1&amp;tbnid=oghLJmQaJX2pSM:&amp;tbnh=124&amp;tbnw=113&amp;prev=/images%3Fq%3Dqueen%2Bhatshepsut%26start%3D40%26ndsp%3D20%26um%3D1%26hl%3Den%26rls%3Dcom.microsoft:en-us:IE-SearchBox%26rlz%3D1I7HPIA%26sa%3D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Comic Sans MS"/>
              </a:rPr>
              <a:t>Famous Mummies and </a:t>
            </a:r>
            <a:br>
              <a:rPr sz="4400"/>
            </a:br>
            <a:r>
              <a:rPr b="0" lang="en-US" sz="4400" spc="-1" strike="noStrike">
                <a:solidFill>
                  <a:srgbClr val="e2efcd"/>
                </a:solidFill>
                <a:latin typeface="Comic Sans MS"/>
              </a:rPr>
              <a:t>Their Stories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447920" y="38098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y Alexa Grazio and Tori Lacz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191120" y="1752480"/>
            <a:ext cx="10350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King Tutankhamen </a:t>
            </a:r>
            <a:br>
              <a:rPr sz="4000"/>
            </a:b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(King Tut)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in 1922 by Howard Carter and Lord Carnarv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dy was located in the Valley of the Kings which is in Egyp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covery was famous because his tomb was very well preserv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4876920"/>
            <a:ext cx="1379520" cy="1847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5002200"/>
            <a:ext cx="2209680" cy="1486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124080" y="54864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ng Tut’s funeral ma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53341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ft: King Tut reconstru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ght: King Tut’s 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Times New Roman"/>
                <a:ea typeface="Times New Roman"/>
              </a:rPr>
              <a:t>Ötzi</a:t>
            </a:r>
            <a:br>
              <a:rPr sz="4000"/>
            </a:br>
            <a:r>
              <a:rPr b="0" lang="en-US" sz="4000" spc="-1" strike="noStrike">
                <a:solidFill>
                  <a:srgbClr val="e2efcd"/>
                </a:solidFill>
                <a:latin typeface="Times New Roman"/>
                <a:ea typeface="Times New Roman"/>
              </a:rPr>
              <a:t>(The Iceman)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in 1991 by Helmut and Erika Simon who were hi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dy was located near Hauslabjoch in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zal Al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zi is famous because he is the oldest mummy found preserved by 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5105520"/>
            <a:ext cx="1828800" cy="1401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52480" y="5105520"/>
            <a:ext cx="1600200" cy="1430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429000" y="54864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onstruct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tz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43800" y="55627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tzi’s mum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Queen Hatshepsu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avated in 1903 by Howard Carter but not identified until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 body was found on the west bank of the Ni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en Hatshepsut was famous because she was the first woman ruler recorded in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4952880"/>
            <a:ext cx="1492200" cy="1638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962520" y="54100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en Hatshepsut’s mum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562720" y="5257800"/>
            <a:ext cx="1600200" cy="12398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238880" y="5638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ue of Queen Hatsheps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00:50:18Z</dcterms:created>
  <dc:creator>SGrazio</dc:creator>
  <dc:description/>
  <dc:language>en-US</dc:language>
  <cp:lastModifiedBy>SGrazio</cp:lastModifiedBy>
  <dcterms:modified xsi:type="dcterms:W3CDTF">2009-01-15T20:43:29Z</dcterms:modified>
  <cp:revision>5</cp:revision>
  <dc:subject/>
  <dc:title>Famous Mummies and  Their Stories</dc:title>
</cp:coreProperties>
</file>